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5D7-4417-4ACB-8029-1229219D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45E-47E2-48E8-A632-310F9462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FAC-55D5-42BF-AFB7-35E8DF10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13B-4872-4E9D-90A4-DEDDFA8F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414-EB25-4143-88C8-55F27331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9E1-460F-43F3-AF42-B3030D8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100-7A89-4165-B534-049E9025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C90-2C72-4C37-8585-15CAE11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ABA-97E5-44D3-84E1-D395085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C04-5782-475D-99F9-9EED71D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6D7-C320-4FE8-9D21-F862D06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48A-7142-4EF8-B3DD-E610FD0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EE3-E6C7-4602-8972-BF23C9B2C59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3 Na kríži trpel som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trpel som a tam aj dokon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si sa dieťaťom už navždy Božím 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smrti som ťa zachrán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na to pamätá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a krvou zaplat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veľkú cenu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teba som sa vz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slávy nebesk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 seba som vz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ôľ, strasti pozemsk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vete som bol cudzinc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na smrť ranen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nezostal si vyhnanc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áv večných zbav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Otca v nebesia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hriech ma odlúč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mysli nekles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som ť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pokoj, radosť chcem ti 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út hriechu pozbav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tvojom srdci prebý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tebou večne ž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0:55:41Z</dcterms:modified>
  <cp:revision>26</cp:revision>
  <dc:subject/>
  <dc:title>Je veľký náš Pán, on slávy je Kráľ Nech do všetkých strán  spev vrúcnych znie chvál.</dc:title>
</cp:coreProperties>
</file>